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C25-FC51-4208-893D-2621439B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3EF-2E6B-4EC4-9F24-D14E6715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A99-39FB-4747-BB50-48E33432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6F4-4ACD-4386-AB08-4F5D08E3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DEAB-B764-491E-A6AF-0919C8EB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4508-897B-4917-BE75-D111D9BC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C24B-1837-47EC-AD2D-7E847F0A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0D10-20D8-42E0-8C9D-FB7C7874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2CB3-E68A-4D71-A7D8-D4678888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23B5-B79A-48C7-9FDD-0058641E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5C60-267E-4D17-B855-7108A70F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69C-6D3F-4F8F-B4AF-05CF9654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9760-D943-4878-A3BB-9CAEF67E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9CE6-B782-407F-8B96-F115E978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B940-11FC-4976-80D0-2919DE85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7041-CE54-4D03-8850-E2DEDE6B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71B6-64B1-4B4B-B0DE-C8801F22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8B1D5-FD6A-49C9-A40A-BB28B500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91EE-6764-4CAD-9145-D098B7C1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60B0C-F59B-4ED9-AA16-9988B0EE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ACEF2-639F-4CAB-AFBA-EE6F0B90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D09F6-4736-4E5D-915C-1D479D10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A6F-BF7F-4F40-8DFD-2578A936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A034F-C9D4-40B8-A3EE-B6127BC9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9A824-7FC6-4925-A094-C894283E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6FC11-9A6F-4E15-AEF0-E0071BFE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EF442-A2C8-4A21-8818-8F62AC96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57B3E-4694-4205-89DB-2A88BD0A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D1CF9-98F0-4F24-8519-6FCBD84C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B220-F345-4FE2-8E3A-EEB9620D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1A9AA-8348-49A3-85EB-F1F88ECE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EB75-6875-4B62-BDDB-EE7021B8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2BED5-1803-4B4C-AEB1-768A07CE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912-87A9-44A1-972E-12DC8357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D7CA3-3C13-4F9C-B66C-73954B2F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2FC6F-B833-47C2-8CCB-29FF80C7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CB0F8-DBF6-4ABC-B2AB-34A6AE11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5BAA3-7497-45FC-8864-D684140B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4C100-2BEA-4F31-99EF-5B081C7A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D13C4-F54D-44D7-988B-08FEC829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8F7EC-F99E-448A-B1C2-1C7F1B85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CB648-820A-4725-8312-D9B04BD0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79A45-0647-431F-B04F-F0CA6B30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94F1E-516D-42B9-B80B-DDD691D3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6136-B372-4CD6-9091-31B1C5D4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0F627-DB3C-4D4E-9D84-D34496C6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99109-3510-440A-B79C-DDF5F2A8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254C6-3DB3-4C9A-8EBF-525AC9E1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1AE5A-A27B-4DE4-9AD3-7CF9B318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CB93D-6FB8-43E1-BA6F-4C793987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B34DC-1D22-4672-A823-1D4E0DB3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3EE67-F50B-4FAE-AEAE-04E83FFC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5323A-D4C0-4786-94DF-C06E1652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B941A-48EA-46F7-A887-AA4A3047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78F2D-2725-4BBC-B323-EF199D94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5BF-A4D7-40F9-8A8D-044E6774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23751-D3C4-477D-8F54-6CE82963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B3D8C-5CD8-456F-B03C-2BC37532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9733F-250E-46B3-B0B1-71A45688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A537A-9C08-411B-8339-2F8F6F3E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F3965-6F6A-4769-9FF3-5E49605F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D5A74-81A3-4BFC-BDB2-ED6F12D3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BBCE8-79E9-4CF2-969F-78D0FB3E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93770-3026-4CD2-855E-9E62128F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F3986-1E1E-4F96-9799-AA527E1E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0B0DC-80DF-49BA-B52B-03F325C8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79A5-E1B1-4F98-8A26-66F25B54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BCDC1-47E0-4CC1-A2E2-D164F47E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D1A83-A3B3-47AF-918D-B116AC50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917F9-FE85-4959-AA7C-9C9E2773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007-89A6-46AC-BDE8-90FF9F72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E9A-1DBE-49C7-ADA6-904A5944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9E8F-0553-454F-B7DC-1A5458783E46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1FF6-29F2-4C53-BCB4-CBE770304E83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09B4-81A6-4CF5-B767-F45EF02F7D2E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2FAE-44EB-4012-984B-41BD4AD6C8B4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9036-7406-411D-BCB6-652D508DD5C2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7B45-0E6F-461A-ADD8-91D070A0EF3C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2"/>
          <p:cNvSpPr/>
          <p:nvPr/>
        </p:nvSpPr>
        <p:spPr>
          <a:xfrm>
            <a:off x="1452600" y="2463840"/>
            <a:ext cx="993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3  </a:t>
            </a: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马 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文本框 4101"/>
          <p:cNvSpPr/>
          <p:nvPr/>
        </p:nvSpPr>
        <p:spPr>
          <a:xfrm>
            <a:off x="595440" y="735120"/>
            <a:ext cx="29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楷体"/>
              </a:rPr>
              <a:t>疏通文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2317"/>
          <p:cNvSpPr/>
          <p:nvPr/>
        </p:nvSpPr>
        <p:spPr>
          <a:xfrm>
            <a:off x="433440" y="1125360"/>
            <a:ext cx="112777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世有伯乐，然后有千里马。千里马常有，而伯乐不常有。故虽有名马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辱于奴隶人之手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骈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槽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间，不以千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12318"/>
          <p:cNvSpPr/>
          <p:nvPr/>
        </p:nvSpPr>
        <p:spPr>
          <a:xfrm>
            <a:off x="595440" y="4800600"/>
            <a:ext cx="5641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2"/>
          <p:cNvGrpSpPr/>
          <p:nvPr/>
        </p:nvGrpSpPr>
        <p:grpSpPr>
          <a:xfrm>
            <a:off x="7608240" y="2841840"/>
            <a:ext cx="700920" cy="674280"/>
            <a:chOff x="7608240" y="2841840"/>
            <a:chExt cx="700920" cy="674280"/>
          </a:xfrm>
        </p:grpSpPr>
        <p:sp>
          <p:nvSpPr>
            <p:cNvPr id="347" name="椭圆 13427"/>
            <p:cNvSpPr/>
            <p:nvPr/>
          </p:nvSpPr>
          <p:spPr>
            <a:xfrm rot="20760000">
              <a:off x="7640280" y="3146040"/>
              <a:ext cx="448200" cy="320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直接连接符 13428"/>
            <p:cNvSpPr/>
            <p:nvPr/>
          </p:nvSpPr>
          <p:spPr>
            <a:xfrm flipV="1">
              <a:off x="7857360" y="2841840"/>
              <a:ext cx="451800" cy="30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文本框 4"/>
          <p:cNvSpPr/>
          <p:nvPr/>
        </p:nvSpPr>
        <p:spPr>
          <a:xfrm>
            <a:off x="7307280" y="2463840"/>
            <a:ext cx="16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只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组合 5"/>
          <p:cNvGrpSpPr/>
          <p:nvPr/>
        </p:nvGrpSpPr>
        <p:grpSpPr>
          <a:xfrm>
            <a:off x="1886760" y="4105800"/>
            <a:ext cx="701280" cy="673920"/>
            <a:chOff x="1886760" y="4105800"/>
            <a:chExt cx="701280" cy="673920"/>
          </a:xfrm>
        </p:grpSpPr>
        <p:sp>
          <p:nvSpPr>
            <p:cNvPr id="351" name="椭圆 13427"/>
            <p:cNvSpPr/>
            <p:nvPr/>
          </p:nvSpPr>
          <p:spPr>
            <a:xfrm rot="20760000">
              <a:off x="1918800" y="4409640"/>
              <a:ext cx="448200" cy="320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13428"/>
            <p:cNvSpPr/>
            <p:nvPr/>
          </p:nvSpPr>
          <p:spPr>
            <a:xfrm flipV="1">
              <a:off x="2135880" y="4105800"/>
              <a:ext cx="452160" cy="30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8"/>
          <p:cNvSpPr/>
          <p:nvPr/>
        </p:nvSpPr>
        <p:spPr>
          <a:xfrm>
            <a:off x="1332000" y="3630600"/>
            <a:ext cx="30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并列而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9"/>
          <p:cNvGrpSpPr/>
          <p:nvPr/>
        </p:nvGrpSpPr>
        <p:grpSpPr>
          <a:xfrm>
            <a:off x="8184600" y="4073760"/>
            <a:ext cx="700920" cy="673920"/>
            <a:chOff x="8184600" y="4073760"/>
            <a:chExt cx="700920" cy="673920"/>
          </a:xfrm>
        </p:grpSpPr>
        <p:sp>
          <p:nvSpPr>
            <p:cNvPr id="355" name="椭圆 13427"/>
            <p:cNvSpPr/>
            <p:nvPr/>
          </p:nvSpPr>
          <p:spPr>
            <a:xfrm rot="20760000">
              <a:off x="8216640" y="4377600"/>
              <a:ext cx="448200" cy="320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直接连接符 13428"/>
            <p:cNvSpPr/>
            <p:nvPr/>
          </p:nvSpPr>
          <p:spPr>
            <a:xfrm flipV="1">
              <a:off x="8433720" y="4073760"/>
              <a:ext cx="451800" cy="30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文本框 12"/>
          <p:cNvSpPr/>
          <p:nvPr/>
        </p:nvSpPr>
        <p:spPr>
          <a:xfrm>
            <a:off x="8070840" y="3630600"/>
            <a:ext cx="30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著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13"/>
          <p:cNvGrpSpPr/>
          <p:nvPr/>
        </p:nvGrpSpPr>
        <p:grpSpPr>
          <a:xfrm>
            <a:off x="3639600" y="4001040"/>
            <a:ext cx="700920" cy="673920"/>
            <a:chOff x="3639600" y="4001040"/>
            <a:chExt cx="700920" cy="673920"/>
          </a:xfrm>
        </p:grpSpPr>
        <p:sp>
          <p:nvSpPr>
            <p:cNvPr id="359" name="椭圆 13427"/>
            <p:cNvSpPr/>
            <p:nvPr/>
          </p:nvSpPr>
          <p:spPr>
            <a:xfrm rot="20760000">
              <a:off x="3671640" y="4304880"/>
              <a:ext cx="448200" cy="320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13428"/>
            <p:cNvSpPr/>
            <p:nvPr/>
          </p:nvSpPr>
          <p:spPr>
            <a:xfrm flipV="1">
              <a:off x="3888720" y="4001040"/>
              <a:ext cx="451800" cy="30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文本框 16"/>
          <p:cNvSpPr/>
          <p:nvPr/>
        </p:nvSpPr>
        <p:spPr>
          <a:xfrm>
            <a:off x="3852720" y="3641760"/>
            <a:ext cx="36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喂牲口用的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文本框 12319"/>
          <p:cNvSpPr/>
          <p:nvPr/>
        </p:nvSpPr>
        <p:spPr>
          <a:xfrm>
            <a:off x="243000" y="1779480"/>
            <a:ext cx="1169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译文：世上有了伯乐，然后才会有千里马。千里马是经常有的，可是伯乐却不经常有。因此，即使有了名贵的马也只能在仆役的手下受到屈辱，跟普通的马一同死在槽枥之间，不以千里马著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文本框 4101"/>
          <p:cNvSpPr/>
          <p:nvPr/>
        </p:nvSpPr>
        <p:spPr>
          <a:xfrm>
            <a:off x="476280" y="76500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楷体"/>
              </a:rPr>
              <a:t>疏通文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13336"/>
          <p:cNvSpPr/>
          <p:nvPr/>
        </p:nvSpPr>
        <p:spPr>
          <a:xfrm>
            <a:off x="684360" y="1413000"/>
            <a:ext cx="109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马之千里者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或尽粟一石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马者不知其能千里而食也。是马也，虽有千里之能，食不饱，力不足，才美不外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欲与常马等不可得，安求其能千里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5"/>
          <p:cNvGrpSpPr/>
          <p:nvPr/>
        </p:nvGrpSpPr>
        <p:grpSpPr>
          <a:xfrm>
            <a:off x="5419080" y="1654560"/>
            <a:ext cx="700920" cy="673920"/>
            <a:chOff x="5419080" y="1654560"/>
            <a:chExt cx="700920" cy="673920"/>
          </a:xfrm>
        </p:grpSpPr>
        <p:sp>
          <p:nvSpPr>
            <p:cNvPr id="366" name="椭圆 13427"/>
            <p:cNvSpPr/>
            <p:nvPr/>
          </p:nvSpPr>
          <p:spPr>
            <a:xfrm rot="20760000">
              <a:off x="5451120" y="1958400"/>
              <a:ext cx="448200" cy="320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13428"/>
            <p:cNvSpPr/>
            <p:nvPr/>
          </p:nvSpPr>
          <p:spPr>
            <a:xfrm flipV="1">
              <a:off x="5668200" y="1654560"/>
              <a:ext cx="451800" cy="30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文本框 4"/>
          <p:cNvSpPr/>
          <p:nvPr/>
        </p:nvSpPr>
        <p:spPr>
          <a:xfrm>
            <a:off x="5321160" y="11811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吃一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1"/>
          <p:cNvGrpSpPr/>
          <p:nvPr/>
        </p:nvGrpSpPr>
        <p:grpSpPr>
          <a:xfrm>
            <a:off x="9570240" y="1675080"/>
            <a:ext cx="701280" cy="673920"/>
            <a:chOff x="9570240" y="1675080"/>
            <a:chExt cx="701280" cy="673920"/>
          </a:xfrm>
        </p:grpSpPr>
        <p:sp>
          <p:nvSpPr>
            <p:cNvPr id="370" name="椭圆 13427"/>
            <p:cNvSpPr/>
            <p:nvPr/>
          </p:nvSpPr>
          <p:spPr>
            <a:xfrm rot="20760000">
              <a:off x="9602280" y="1978920"/>
              <a:ext cx="448200" cy="320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3428"/>
            <p:cNvSpPr/>
            <p:nvPr/>
          </p:nvSpPr>
          <p:spPr>
            <a:xfrm flipV="1">
              <a:off x="9819360" y="1675080"/>
              <a:ext cx="452160" cy="30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9"/>
          <p:cNvSpPr/>
          <p:nvPr/>
        </p:nvSpPr>
        <p:spPr>
          <a:xfrm>
            <a:off x="8459640" y="1201680"/>
            <a:ext cx="34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通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饲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10"/>
          <p:cNvGrpSpPr/>
          <p:nvPr/>
        </p:nvGrpSpPr>
        <p:grpSpPr>
          <a:xfrm>
            <a:off x="8421120" y="3600720"/>
            <a:ext cx="700920" cy="673920"/>
            <a:chOff x="8421120" y="3600720"/>
            <a:chExt cx="700920" cy="673920"/>
          </a:xfrm>
        </p:grpSpPr>
        <p:sp>
          <p:nvSpPr>
            <p:cNvPr id="374" name="椭圆 13427"/>
            <p:cNvSpPr/>
            <p:nvPr/>
          </p:nvSpPr>
          <p:spPr>
            <a:xfrm rot="20760000">
              <a:off x="8453160" y="3904560"/>
              <a:ext cx="448200" cy="320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13428"/>
            <p:cNvSpPr/>
            <p:nvPr/>
          </p:nvSpPr>
          <p:spPr>
            <a:xfrm flipV="1">
              <a:off x="8670240" y="3600720"/>
              <a:ext cx="451800" cy="30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文本框 13"/>
          <p:cNvSpPr/>
          <p:nvPr/>
        </p:nvSpPr>
        <p:spPr>
          <a:xfrm>
            <a:off x="7291440" y="3271680"/>
            <a:ext cx="32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见，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现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组合 14"/>
          <p:cNvGrpSpPr/>
          <p:nvPr/>
        </p:nvGrpSpPr>
        <p:grpSpPr>
          <a:xfrm>
            <a:off x="9412200" y="3795480"/>
            <a:ext cx="659160" cy="735120"/>
            <a:chOff x="9412200" y="3795480"/>
            <a:chExt cx="659160" cy="735120"/>
          </a:xfrm>
        </p:grpSpPr>
        <p:sp>
          <p:nvSpPr>
            <p:cNvPr id="378" name="椭圆 13427"/>
            <p:cNvSpPr/>
            <p:nvPr/>
          </p:nvSpPr>
          <p:spPr>
            <a:xfrm rot="9600000">
              <a:off x="9581760" y="3862080"/>
              <a:ext cx="448200" cy="320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直接连接符 13428"/>
            <p:cNvSpPr/>
            <p:nvPr/>
          </p:nvSpPr>
          <p:spPr>
            <a:xfrm flipH="1">
              <a:off x="9412200" y="4183560"/>
              <a:ext cx="418320" cy="34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文本框 17"/>
          <p:cNvSpPr/>
          <p:nvPr/>
        </p:nvSpPr>
        <p:spPr>
          <a:xfrm>
            <a:off x="7783560" y="4322880"/>
            <a:ext cx="32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犹，尚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文本框 13337"/>
          <p:cNvSpPr/>
          <p:nvPr/>
        </p:nvSpPr>
        <p:spPr>
          <a:xfrm>
            <a:off x="571680" y="1104840"/>
            <a:ext cx="111996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译文：日行千里的马，一顿有时能吃下一石粮食，喂马的人不懂得要根据它日行千里的本领来喂养它。这样的马，虽有日行千里的能耐，却吃不饱，力气不足，它的才能和美好的素质也就表现不出来，想要跟普通的马相等尚且办不到，又怎么能要求它日行千里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文本框 4101"/>
          <p:cNvSpPr/>
          <p:nvPr/>
        </p:nvSpPr>
        <p:spPr>
          <a:xfrm>
            <a:off x="431640" y="620640"/>
            <a:ext cx="29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楷体"/>
              </a:rPr>
              <a:t>疏通文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14358"/>
          <p:cNvSpPr/>
          <p:nvPr/>
        </p:nvSpPr>
        <p:spPr>
          <a:xfrm>
            <a:off x="623880" y="1484280"/>
            <a:ext cx="1073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策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以其道，食之不能尽其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鸣之而不能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意，执策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，曰：“天下无马！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呜呼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！其真无马邪？其真不知马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组合 5"/>
          <p:cNvGrpSpPr/>
          <p:nvPr/>
        </p:nvGrpSpPr>
        <p:grpSpPr>
          <a:xfrm>
            <a:off x="2139480" y="1686240"/>
            <a:ext cx="700920" cy="673920"/>
            <a:chOff x="2139480" y="1686240"/>
            <a:chExt cx="700920" cy="673920"/>
          </a:xfrm>
        </p:grpSpPr>
        <p:sp>
          <p:nvSpPr>
            <p:cNvPr id="385" name="椭圆 13427"/>
            <p:cNvSpPr/>
            <p:nvPr/>
          </p:nvSpPr>
          <p:spPr>
            <a:xfrm rot="20760000">
              <a:off x="2171520" y="1990080"/>
              <a:ext cx="448200" cy="320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直接连接符 13428"/>
            <p:cNvSpPr/>
            <p:nvPr/>
          </p:nvSpPr>
          <p:spPr>
            <a:xfrm flipV="1">
              <a:off x="2388600" y="1686240"/>
              <a:ext cx="451800" cy="30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文本框 4"/>
          <p:cNvSpPr/>
          <p:nvPr/>
        </p:nvSpPr>
        <p:spPr>
          <a:xfrm>
            <a:off x="2602080" y="12747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鞭打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8927640" y="1781640"/>
            <a:ext cx="700920" cy="673920"/>
            <a:chOff x="8927640" y="1781640"/>
            <a:chExt cx="700920" cy="673920"/>
          </a:xfrm>
        </p:grpSpPr>
        <p:sp>
          <p:nvSpPr>
            <p:cNvPr id="389" name="椭圆 13427"/>
            <p:cNvSpPr/>
            <p:nvPr/>
          </p:nvSpPr>
          <p:spPr>
            <a:xfrm rot="20760000">
              <a:off x="8959680" y="2085480"/>
              <a:ext cx="448200" cy="320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直接连接符 13428"/>
            <p:cNvSpPr/>
            <p:nvPr/>
          </p:nvSpPr>
          <p:spPr>
            <a:xfrm flipV="1">
              <a:off x="9176760" y="1781640"/>
              <a:ext cx="451800" cy="30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文本框 9"/>
          <p:cNvSpPr/>
          <p:nvPr/>
        </p:nvSpPr>
        <p:spPr>
          <a:xfrm>
            <a:off x="8504280" y="126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通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才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10"/>
          <p:cNvGrpSpPr/>
          <p:nvPr/>
        </p:nvGrpSpPr>
        <p:grpSpPr>
          <a:xfrm>
            <a:off x="2390040" y="2718000"/>
            <a:ext cx="701280" cy="674280"/>
            <a:chOff x="2390040" y="2718000"/>
            <a:chExt cx="701280" cy="674280"/>
          </a:xfrm>
        </p:grpSpPr>
        <p:sp>
          <p:nvSpPr>
            <p:cNvPr id="393" name="椭圆 13427"/>
            <p:cNvSpPr/>
            <p:nvPr/>
          </p:nvSpPr>
          <p:spPr>
            <a:xfrm rot="20760000">
              <a:off x="2422080" y="3022200"/>
              <a:ext cx="448200" cy="320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13428"/>
            <p:cNvSpPr/>
            <p:nvPr/>
          </p:nvSpPr>
          <p:spPr>
            <a:xfrm flipV="1">
              <a:off x="2639160" y="2718000"/>
              <a:ext cx="452160" cy="30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文本框 13"/>
          <p:cNvSpPr/>
          <p:nvPr/>
        </p:nvSpPr>
        <p:spPr>
          <a:xfrm>
            <a:off x="2643120" y="2347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通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14"/>
          <p:cNvGrpSpPr/>
          <p:nvPr/>
        </p:nvGrpSpPr>
        <p:grpSpPr>
          <a:xfrm>
            <a:off x="6219360" y="2718000"/>
            <a:ext cx="700920" cy="674280"/>
            <a:chOff x="6219360" y="2718000"/>
            <a:chExt cx="700920" cy="674280"/>
          </a:xfrm>
        </p:grpSpPr>
        <p:sp>
          <p:nvSpPr>
            <p:cNvPr id="397" name="椭圆 13427"/>
            <p:cNvSpPr/>
            <p:nvPr/>
          </p:nvSpPr>
          <p:spPr>
            <a:xfrm rot="20760000">
              <a:off x="6251400" y="3022200"/>
              <a:ext cx="448200" cy="320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13428"/>
            <p:cNvSpPr/>
            <p:nvPr/>
          </p:nvSpPr>
          <p:spPr>
            <a:xfrm flipV="1">
              <a:off x="6468480" y="2718000"/>
              <a:ext cx="451800" cy="30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文本框 17"/>
          <p:cNvSpPr/>
          <p:nvPr/>
        </p:nvSpPr>
        <p:spPr>
          <a:xfrm>
            <a:off x="6205680" y="23684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面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组合 18"/>
          <p:cNvGrpSpPr/>
          <p:nvPr/>
        </p:nvGrpSpPr>
        <p:grpSpPr>
          <a:xfrm>
            <a:off x="2712240" y="3750120"/>
            <a:ext cx="701280" cy="673920"/>
            <a:chOff x="2712240" y="3750120"/>
            <a:chExt cx="701280" cy="673920"/>
          </a:xfrm>
        </p:grpSpPr>
        <p:sp>
          <p:nvSpPr>
            <p:cNvPr id="401" name="椭圆 13427"/>
            <p:cNvSpPr/>
            <p:nvPr/>
          </p:nvSpPr>
          <p:spPr>
            <a:xfrm rot="20760000">
              <a:off x="2744280" y="4053960"/>
              <a:ext cx="448200" cy="320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直接连接符 13428"/>
            <p:cNvSpPr/>
            <p:nvPr/>
          </p:nvSpPr>
          <p:spPr>
            <a:xfrm flipV="1">
              <a:off x="2961360" y="3750120"/>
              <a:ext cx="452160" cy="30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文本框 21"/>
          <p:cNvSpPr/>
          <p:nvPr/>
        </p:nvSpPr>
        <p:spPr>
          <a:xfrm>
            <a:off x="906480" y="334656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表惊叹，相当于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唉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文本框 14359"/>
          <p:cNvSpPr/>
          <p:nvPr/>
        </p:nvSpPr>
        <p:spPr>
          <a:xfrm>
            <a:off x="660240" y="1301760"/>
            <a:ext cx="1083960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译文：鞭策它，不按正确的方法，喂养又不能使它充分发挥自己的才能，听它叫却不能通晓它的意思，（反而）拿着鞭子站在它跟前说：“天下没有千里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难道果真没有千里马吗？恐怕是他们真不识得千里马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文本框 4101"/>
          <p:cNvSpPr/>
          <p:nvPr/>
        </p:nvSpPr>
        <p:spPr>
          <a:xfrm>
            <a:off x="222120" y="617400"/>
            <a:ext cx="32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楷体"/>
              </a:rPr>
              <a:t>内容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5371"/>
          <p:cNvSpPr/>
          <p:nvPr/>
        </p:nvSpPr>
        <p:spPr>
          <a:xfrm>
            <a:off x="2836800" y="1118880"/>
            <a:ext cx="8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第一段文字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15372"/>
          <p:cNvSpPr/>
          <p:nvPr/>
        </p:nvSpPr>
        <p:spPr>
          <a:xfrm>
            <a:off x="3574440" y="16966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伯乐对千里马的决定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5373"/>
          <p:cNvSpPr/>
          <p:nvPr/>
        </p:nvSpPr>
        <p:spPr>
          <a:xfrm>
            <a:off x="623880" y="2208960"/>
            <a:ext cx="1116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第二段哪些文字体现了千里马不能日行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里的原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15374"/>
          <p:cNvSpPr/>
          <p:nvPr/>
        </p:nvSpPr>
        <p:spPr>
          <a:xfrm>
            <a:off x="1001880" y="3404880"/>
            <a:ext cx="108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食不饱，力不足，才美不外见，且欲与常马等不可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15375"/>
          <p:cNvSpPr/>
          <p:nvPr/>
        </p:nvSpPr>
        <p:spPr>
          <a:xfrm>
            <a:off x="1577160" y="4228200"/>
            <a:ext cx="34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第三段主要内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5376"/>
          <p:cNvSpPr/>
          <p:nvPr/>
        </p:nvSpPr>
        <p:spPr>
          <a:xfrm>
            <a:off x="2463120" y="47124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不是天下无千里马，而是不识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图片 15377" descr="马"/>
          <p:cNvPicPr/>
          <p:nvPr/>
        </p:nvPicPr>
        <p:blipFill>
          <a:blip r:embed="rId1"/>
          <a:stretch/>
        </p:blipFill>
        <p:spPr>
          <a:xfrm>
            <a:off x="9072720" y="4365720"/>
            <a:ext cx="2782800" cy="1914480"/>
          </a:xfrm>
          <a:prstGeom prst="rect">
            <a:avLst/>
          </a:prstGeom>
          <a:ln w="0">
            <a:noFill/>
          </a:ln>
        </p:spPr>
      </p:pic>
      <p:sp>
        <p:nvSpPr>
          <p:cNvPr id="413" name="矩形 17428"/>
          <p:cNvSpPr/>
          <p:nvPr/>
        </p:nvSpPr>
        <p:spPr>
          <a:xfrm>
            <a:off x="620640" y="5182200"/>
            <a:ext cx="102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文中哪句话表明了作者的观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7429"/>
          <p:cNvSpPr/>
          <p:nvPr/>
        </p:nvSpPr>
        <p:spPr>
          <a:xfrm>
            <a:off x="2295000" y="57607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千里马常有，而伯乐不常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文本框 4101"/>
          <p:cNvSpPr/>
          <p:nvPr/>
        </p:nvSpPr>
        <p:spPr>
          <a:xfrm>
            <a:off x="436680" y="682560"/>
            <a:ext cx="29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楷体"/>
              </a:rPr>
              <a:t>写法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7431"/>
          <p:cNvSpPr/>
          <p:nvPr/>
        </p:nvSpPr>
        <p:spPr>
          <a:xfrm>
            <a:off x="2217960" y="1817640"/>
            <a:ext cx="54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本文通篇不离千里马，难道只是说“马”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7432"/>
          <p:cNvSpPr/>
          <p:nvPr/>
        </p:nvSpPr>
        <p:spPr>
          <a:xfrm>
            <a:off x="1106640" y="3269160"/>
            <a:ext cx="93135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是，作者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借千里马难遇伯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最终被埋没的遭遇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埋没人才现状作了揭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图片 17433" descr="马"/>
          <p:cNvPicPr/>
          <p:nvPr/>
        </p:nvPicPr>
        <p:blipFill>
          <a:blip r:embed="rId1"/>
          <a:stretch/>
        </p:blipFill>
        <p:spPr>
          <a:xfrm>
            <a:off x="9072720" y="4151160"/>
            <a:ext cx="2782800" cy="19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矩形 19471"/>
          <p:cNvSpPr/>
          <p:nvPr/>
        </p:nvSpPr>
        <p:spPr>
          <a:xfrm>
            <a:off x="2109960" y="1593720"/>
            <a:ext cx="48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文中的“伯乐”“千里马”各比喻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9472"/>
          <p:cNvSpPr/>
          <p:nvPr/>
        </p:nvSpPr>
        <p:spPr>
          <a:xfrm>
            <a:off x="914400" y="1973520"/>
            <a:ext cx="96408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伯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比喻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善于识别人才的统治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千里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比喻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人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9473"/>
          <p:cNvSpPr/>
          <p:nvPr/>
        </p:nvSpPr>
        <p:spPr>
          <a:xfrm>
            <a:off x="433440" y="3337560"/>
            <a:ext cx="1159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本文通过描写千里马的遭遇，表达了韩愈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样的思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19474"/>
          <p:cNvSpPr/>
          <p:nvPr/>
        </p:nvSpPr>
        <p:spPr>
          <a:xfrm>
            <a:off x="2726640" y="430272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达了作者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怀才不遇，有志难酬的愤懑心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图片 19475" descr="马"/>
          <p:cNvPicPr/>
          <p:nvPr/>
        </p:nvPicPr>
        <p:blipFill>
          <a:blip r:embed="rId1"/>
          <a:stretch/>
        </p:blipFill>
        <p:spPr>
          <a:xfrm>
            <a:off x="9301320" y="4738680"/>
            <a:ext cx="255420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文本框 23557"/>
          <p:cNvSpPr/>
          <p:nvPr/>
        </p:nvSpPr>
        <p:spPr>
          <a:xfrm>
            <a:off x="-274320" y="2779560"/>
            <a:ext cx="115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马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左大括号 23558"/>
          <p:cNvSpPr/>
          <p:nvPr/>
        </p:nvSpPr>
        <p:spPr>
          <a:xfrm>
            <a:off x="1204920" y="1555920"/>
            <a:ext cx="384120" cy="3168360"/>
          </a:xfrm>
          <a:custGeom>
            <a:avLst/>
            <a:gdLst>
              <a:gd name="textAreaLeft" fmla="*/ 245520 w 384120"/>
              <a:gd name="textAreaRight" fmla="*/ 384480 w 384120"/>
              <a:gd name="textAreaTop" fmla="*/ 109800 h 3168360"/>
              <a:gd name="textAreaBottom" fmla="*/ 3058560 h 31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6"/>
                  <a:pt x="10800" y="2392"/>
                </a:cubicBezTo>
                <a:lnTo>
                  <a:pt x="10800" y="8408"/>
                </a:lnTo>
                <a:cubicBezTo>
                  <a:pt x="10800" y="9604"/>
                  <a:pt x="5400" y="10800"/>
                  <a:pt x="0" y="10800"/>
                </a:cubicBezTo>
                <a:cubicBezTo>
                  <a:pt x="5400" y="10800"/>
                  <a:pt x="10800" y="11996"/>
                  <a:pt x="10800" y="13192"/>
                </a:cubicBezTo>
                <a:lnTo>
                  <a:pt x="10800" y="19208"/>
                </a:lnTo>
                <a:cubicBezTo>
                  <a:pt x="10800" y="2040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23559"/>
          <p:cNvSpPr/>
          <p:nvPr/>
        </p:nvSpPr>
        <p:spPr>
          <a:xfrm>
            <a:off x="2060280" y="1422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千里马与伯乐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23560"/>
          <p:cNvSpPr/>
          <p:nvPr/>
        </p:nvSpPr>
        <p:spPr>
          <a:xfrm>
            <a:off x="2157120" y="27889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千里马被埋没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23561"/>
          <p:cNvSpPr/>
          <p:nvPr/>
        </p:nvSpPr>
        <p:spPr>
          <a:xfrm>
            <a:off x="2409840" y="43732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是无千里马，而是不知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23562"/>
          <p:cNvSpPr/>
          <p:nvPr/>
        </p:nvSpPr>
        <p:spPr>
          <a:xfrm>
            <a:off x="7054920" y="1771560"/>
            <a:ext cx="182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23563"/>
          <p:cNvSpPr/>
          <p:nvPr/>
        </p:nvSpPr>
        <p:spPr>
          <a:xfrm>
            <a:off x="7246800" y="3138480"/>
            <a:ext cx="182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23564"/>
          <p:cNvSpPr/>
          <p:nvPr/>
        </p:nvSpPr>
        <p:spPr>
          <a:xfrm>
            <a:off x="8304120" y="4651200"/>
            <a:ext cx="76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23565"/>
          <p:cNvSpPr/>
          <p:nvPr/>
        </p:nvSpPr>
        <p:spPr>
          <a:xfrm>
            <a:off x="8783640" y="1493640"/>
            <a:ext cx="25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无限惋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23566"/>
          <p:cNvSpPr/>
          <p:nvPr/>
        </p:nvSpPr>
        <p:spPr>
          <a:xfrm>
            <a:off x="9219960" y="2788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无限愤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23567"/>
          <p:cNvSpPr/>
          <p:nvPr/>
        </p:nvSpPr>
        <p:spPr>
          <a:xfrm>
            <a:off x="9315360" y="4373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无限嘲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23568"/>
          <p:cNvSpPr/>
          <p:nvPr/>
        </p:nvSpPr>
        <p:spPr>
          <a:xfrm>
            <a:off x="9742320" y="2058840"/>
            <a:ext cx="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23569"/>
          <p:cNvSpPr/>
          <p:nvPr/>
        </p:nvSpPr>
        <p:spPr>
          <a:xfrm>
            <a:off x="9742320" y="3427560"/>
            <a:ext cx="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图片 23571" descr="马"/>
          <p:cNvPicPr/>
          <p:nvPr/>
        </p:nvPicPr>
        <p:blipFill>
          <a:blip r:embed="rId1"/>
          <a:stretch/>
        </p:blipFill>
        <p:spPr>
          <a:xfrm>
            <a:off x="9074160" y="4827600"/>
            <a:ext cx="2529000" cy="1739880"/>
          </a:xfrm>
          <a:prstGeom prst="rect">
            <a:avLst/>
          </a:prstGeom>
          <a:ln w="0">
            <a:noFill/>
          </a:ln>
        </p:spPr>
      </p:pic>
      <p:sp>
        <p:nvSpPr>
          <p:cNvPr id="438" name="文本框 4101"/>
          <p:cNvSpPr/>
          <p:nvPr/>
        </p:nvSpPr>
        <p:spPr>
          <a:xfrm>
            <a:off x="527040" y="620640"/>
            <a:ext cx="26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楷体"/>
              </a:rPr>
              <a:t>板书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文本框 4101"/>
          <p:cNvSpPr/>
          <p:nvPr/>
        </p:nvSpPr>
        <p:spPr>
          <a:xfrm>
            <a:off x="317520" y="77616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楷体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"/>
          <p:cNvSpPr/>
          <p:nvPr/>
        </p:nvSpPr>
        <p:spPr>
          <a:xfrm>
            <a:off x="907920" y="1644480"/>
            <a:ext cx="1018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并理解重点文言实虚词的意义和用法。（重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2"/>
          <p:cNvSpPr/>
          <p:nvPr/>
        </p:nvSpPr>
        <p:spPr>
          <a:xfrm>
            <a:off x="887400" y="2776680"/>
            <a:ext cx="10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疏通文义，理解文章蕴涵的道理。（重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3"/>
          <p:cNvSpPr/>
          <p:nvPr/>
        </p:nvSpPr>
        <p:spPr>
          <a:xfrm>
            <a:off x="863640" y="3836880"/>
            <a:ext cx="10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掌握托物寓意，以事喻理的写法。（难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矩形 26628"/>
          <p:cNvSpPr/>
          <p:nvPr/>
        </p:nvSpPr>
        <p:spPr>
          <a:xfrm>
            <a:off x="515880" y="1987560"/>
            <a:ext cx="1114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世有伯乐，然后有千里马”你是否同意作者的观点？请作简要阐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101"/>
          <p:cNvSpPr/>
          <p:nvPr/>
        </p:nvSpPr>
        <p:spPr>
          <a:xfrm>
            <a:off x="515880" y="765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楷体"/>
              </a:rPr>
              <a:t>小练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图片 26632" descr="U120P26T1D30061F33DT20140207095710"/>
          <p:cNvPicPr/>
          <p:nvPr/>
        </p:nvPicPr>
        <p:blipFill>
          <a:blip r:embed="rId1"/>
          <a:stretch/>
        </p:blipFill>
        <p:spPr>
          <a:xfrm>
            <a:off x="4592520" y="3422520"/>
            <a:ext cx="298764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图片 5131" descr="伯乐相马"/>
          <p:cNvPicPr/>
          <p:nvPr/>
        </p:nvPicPr>
        <p:blipFill>
          <a:blip r:embed="rId1"/>
          <a:stretch/>
        </p:blipFill>
        <p:spPr>
          <a:xfrm>
            <a:off x="2927520" y="1052640"/>
            <a:ext cx="6349680" cy="4800600"/>
          </a:xfrm>
          <a:prstGeom prst="rect">
            <a:avLst/>
          </a:prstGeom>
          <a:ln w="0">
            <a:noFill/>
          </a:ln>
        </p:spPr>
      </p:pic>
      <p:sp>
        <p:nvSpPr>
          <p:cNvPr id="318" name="文本框 5132"/>
          <p:cNvSpPr/>
          <p:nvPr/>
        </p:nvSpPr>
        <p:spPr>
          <a:xfrm>
            <a:off x="5181480" y="580536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伯乐相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文本框 4101"/>
          <p:cNvSpPr/>
          <p:nvPr/>
        </p:nvSpPr>
        <p:spPr>
          <a:xfrm>
            <a:off x="476280" y="785880"/>
            <a:ext cx="27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楷体"/>
              </a:rPr>
              <a:t>走近作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7193"/>
          <p:cNvSpPr/>
          <p:nvPr/>
        </p:nvSpPr>
        <p:spPr>
          <a:xfrm>
            <a:off x="5232240" y="3554640"/>
            <a:ext cx="6489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韩愈，字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退之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河南河阳人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唐代文学家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。因其祖籍在昌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世称韩昌黎。他与柳宗元同是古文运动的倡导者，同时，他又是唐宋八大家之首，其散文尤为著名，有“文起八代之衰”的美誉，著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昌黎先生集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片 7194" descr="韩愈"/>
          <p:cNvPicPr/>
          <p:nvPr/>
        </p:nvPicPr>
        <p:blipFill>
          <a:blip r:embed="rId1"/>
          <a:stretch/>
        </p:blipFill>
        <p:spPr>
          <a:xfrm>
            <a:off x="719280" y="1771560"/>
            <a:ext cx="376380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文本框 4101"/>
          <p:cNvSpPr/>
          <p:nvPr/>
        </p:nvSpPr>
        <p:spPr>
          <a:xfrm>
            <a:off x="477720" y="785880"/>
            <a:ext cx="25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楷体"/>
              </a:rPr>
              <a:t>文学常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8208"/>
          <p:cNvSpPr/>
          <p:nvPr/>
        </p:nvSpPr>
        <p:spPr>
          <a:xfrm>
            <a:off x="1103400" y="1969560"/>
            <a:ext cx="10175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古代的一种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议论体裁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，是一些文人志士对事对物有感而发，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宣泄心中郁闷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托物寓意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的一种体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8210" descr="说"/>
          <p:cNvPicPr/>
          <p:nvPr/>
        </p:nvPicPr>
        <p:blipFill>
          <a:blip r:embed="rId1"/>
          <a:stretch/>
        </p:blipFill>
        <p:spPr>
          <a:xfrm>
            <a:off x="2735280" y="2806560"/>
            <a:ext cx="709920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文本框 4101"/>
          <p:cNvSpPr/>
          <p:nvPr/>
        </p:nvSpPr>
        <p:spPr>
          <a:xfrm>
            <a:off x="476280" y="692280"/>
            <a:ext cx="27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楷体"/>
              </a:rPr>
              <a:t>写作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9237"/>
          <p:cNvSpPr/>
          <p:nvPr/>
        </p:nvSpPr>
        <p:spPr>
          <a:xfrm>
            <a:off x="912960" y="2704680"/>
            <a:ext cx="1099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韩愈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初登仕途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很不得志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。曾三次上书宰相请求重用遭冷遇，甚至三次登门被守门人挡在门外。尽管如此，他仍然声明自己有“忧天下之心”，不会遁迹山林。后相继依附于节度使董晋和张建封幕下，郁郁不得志，再加上当时奸佞当权，政治黑暗，有才能之士不受重视。所以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马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，发出“伯乐不常有”的感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图片 9238" descr="韩愈1"/>
          <p:cNvPicPr/>
          <p:nvPr/>
        </p:nvPicPr>
        <p:blipFill>
          <a:blip r:embed="rId1"/>
          <a:stretch/>
        </p:blipFill>
        <p:spPr>
          <a:xfrm>
            <a:off x="6000840" y="4076640"/>
            <a:ext cx="50878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10253"/>
          <p:cNvSpPr/>
          <p:nvPr/>
        </p:nvSpPr>
        <p:spPr>
          <a:xfrm>
            <a:off x="2070720" y="2474640"/>
            <a:ext cx="2149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食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马者不知其能千里而食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）才美不外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）食之不能尽其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0254"/>
          <p:cNvSpPr/>
          <p:nvPr/>
        </p:nvSpPr>
        <p:spPr>
          <a:xfrm>
            <a:off x="1623600" y="1744560"/>
            <a:ext cx="8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通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0255"/>
          <p:cNvSpPr/>
          <p:nvPr/>
        </p:nvSpPr>
        <p:spPr>
          <a:xfrm>
            <a:off x="2400840" y="2565360"/>
            <a:ext cx="933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通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“饲”，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0256"/>
          <p:cNvSpPr/>
          <p:nvPr/>
        </p:nvSpPr>
        <p:spPr>
          <a:xfrm>
            <a:off x="2289600" y="3860640"/>
            <a:ext cx="6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通“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现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0257"/>
          <p:cNvSpPr/>
          <p:nvPr/>
        </p:nvSpPr>
        <p:spPr>
          <a:xfrm>
            <a:off x="2433960" y="492120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通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“才”，才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图片 10258" descr="马"/>
          <p:cNvPicPr/>
          <p:nvPr/>
        </p:nvPicPr>
        <p:blipFill>
          <a:blip r:embed="rId1"/>
          <a:stretch/>
        </p:blipFill>
        <p:spPr>
          <a:xfrm>
            <a:off x="7728120" y="1700280"/>
            <a:ext cx="3365280" cy="4181400"/>
          </a:xfrm>
          <a:prstGeom prst="rect">
            <a:avLst/>
          </a:prstGeom>
          <a:ln w="0">
            <a:noFill/>
          </a:ln>
        </p:spPr>
      </p:pic>
      <p:sp>
        <p:nvSpPr>
          <p:cNvPr id="334" name="矩形 11"/>
          <p:cNvSpPr/>
          <p:nvPr/>
        </p:nvSpPr>
        <p:spPr>
          <a:xfrm>
            <a:off x="1352520" y="735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字词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27651"/>
          <p:cNvSpPr/>
          <p:nvPr/>
        </p:nvSpPr>
        <p:spPr>
          <a:xfrm>
            <a:off x="2119680" y="1700280"/>
            <a:ext cx="6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一词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7656"/>
          <p:cNvSpPr/>
          <p:nvPr/>
        </p:nvSpPr>
        <p:spPr>
          <a:xfrm>
            <a:off x="1846800" y="2205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）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27657"/>
          <p:cNvSpPr/>
          <p:nvPr/>
        </p:nvSpPr>
        <p:spPr>
          <a:xfrm>
            <a:off x="2925360" y="27007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之不以其道（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用鞭子打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执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而临之（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马鞭子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7658"/>
          <p:cNvSpPr/>
          <p:nvPr/>
        </p:nvSpPr>
        <p:spPr>
          <a:xfrm>
            <a:off x="1845000" y="40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7659"/>
          <p:cNvSpPr/>
          <p:nvPr/>
        </p:nvSpPr>
        <p:spPr>
          <a:xfrm>
            <a:off x="3115080" y="4500720"/>
            <a:ext cx="23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策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之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不以其道（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代词，指马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鸣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之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而不能通其意（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用在主谓之间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11274"/>
          <p:cNvSpPr/>
          <p:nvPr/>
        </p:nvSpPr>
        <p:spPr>
          <a:xfrm>
            <a:off x="1740960" y="17733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）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1275"/>
          <p:cNvSpPr/>
          <p:nvPr/>
        </p:nvSpPr>
        <p:spPr>
          <a:xfrm>
            <a:off x="3854880" y="2336760"/>
            <a:ext cx="2100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策之不以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其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道（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代词，它，马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其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真无马邪（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句中语气词，表推测、反问的语气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其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真不知马也（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其实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图片 11279" descr="相马"/>
          <p:cNvPicPr/>
          <p:nvPr/>
        </p:nvPicPr>
        <p:blipFill>
          <a:blip r:embed="rId1"/>
          <a:stretch/>
        </p:blipFill>
        <p:spPr>
          <a:xfrm>
            <a:off x="2927520" y="4005360"/>
            <a:ext cx="64008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19T09:48:42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